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B3A-779F-43A4-B5B6-ABB499A2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o is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 Hatfield and Ken Pinz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86" name="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92" name="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e3d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95" name="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3d43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98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99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02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colaus Coperni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736640" y="263520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pernicus concluded that Earth is a planet. He proposed a model of the solar system with the sun at the ce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13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14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17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36640" y="2635200"/>
            <a:ext cx="706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cho Brahe designed and built instruments to measure the locations of the heavenly bodi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he’s observations, especially of Mars, were far more precise than any made previ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28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29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32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hannes Ke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36640" y="263520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pler discovered three laws of planetary mo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992240" y="3060720"/>
            <a:ext cx="68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bits of the planets are ellipti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992240" y="3489480"/>
            <a:ext cx="68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ts revolve around the sun at varying sp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992240" y="4260960"/>
            <a:ext cx="66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proportional relationship between a planet’s orbital period and its distance to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46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47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50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hannes Ke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36640" y="264636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oval-shap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36640" y="30542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tronomical unit (AU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verage distance between Earth and the sun; it is about 150 million kilo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6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6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lanet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14400" y="1568520"/>
            <a:ext cx="7315200" cy="5092560"/>
            <a:chOff x="914400" y="1568520"/>
            <a:chExt cx="7315200" cy="5092560"/>
          </a:xfrm>
        </p:grpSpPr>
        <p:sp>
          <p:nvSpPr>
            <p:cNvPr id="271" name=""/>
            <p:cNvSpPr/>
            <p:nvPr/>
          </p:nvSpPr>
          <p:spPr>
            <a:xfrm>
              <a:off x="914400" y="1568520"/>
              <a:ext cx="73152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1281240" y="1882800"/>
              <a:ext cx="6583320" cy="44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74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75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78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736640" y="262404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lileo’s most important contributions were his descriptions of the behavior of mov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736640" y="339876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 developed his own telescope and made important discoveri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992240" y="4184640"/>
            <a:ext cx="687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Four satellites, or moons, orbit Jupiter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992240" y="4603680"/>
            <a:ext cx="687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lanets are circular disks, not just points of light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992240" y="5011560"/>
            <a:ext cx="6886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Venus has phases just like the moon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992240" y="5440320"/>
            <a:ext cx="6886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on’s surface is not smooth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992240" y="5854680"/>
            <a:ext cx="6886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n has sunspots, or dark region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9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0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olar System Model Evol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36600" y="2583000"/>
            <a:ext cx="8470800" cy="2958840"/>
            <a:chOff x="336600" y="2583000"/>
            <a:chExt cx="8470800" cy="2958840"/>
          </a:xfrm>
        </p:grpSpPr>
        <p:sp>
          <p:nvSpPr>
            <p:cNvPr id="304" name=""/>
            <p:cNvSpPr/>
            <p:nvPr/>
          </p:nvSpPr>
          <p:spPr>
            <a:xfrm>
              <a:off x="336600" y="2583000"/>
              <a:ext cx="8470800" cy="29588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665280" y="3019320"/>
              <a:ext cx="7813440" cy="20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07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08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11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r Isaac New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736640" y="264636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hough others had theorized the existence of gravitational force, Newton was the first to formulate and test the law of universal gravi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260360" y="418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 Gravi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736640" y="46656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itational force decreases with d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736640" y="508464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r the mass of an object, the greater is its gravitational for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2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3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vity’s Influence on Orb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43080" y="1592280"/>
            <a:ext cx="8458200" cy="5092560"/>
            <a:chOff x="343080" y="1592280"/>
            <a:chExt cx="8458200" cy="5092560"/>
          </a:xfrm>
        </p:grpSpPr>
        <p:sp>
          <p:nvSpPr>
            <p:cNvPr id="334" name=""/>
            <p:cNvSpPr/>
            <p:nvPr/>
          </p:nvSpPr>
          <p:spPr>
            <a:xfrm>
              <a:off x="343080" y="1592280"/>
              <a:ext cx="84582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636480" y="2030400"/>
              <a:ext cx="7871040" cy="421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37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38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2024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41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21636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wo main motions of Earth are rotation and revolution. Precession is a third and very slow motion of Earth’s ax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92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1600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2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8404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rigin of Modern Astronom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51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tonehenge, an Ancient Observato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60520" y="2400480"/>
            <a:ext cx="6222960" cy="3509640"/>
            <a:chOff x="1460520" y="2400480"/>
            <a:chExt cx="6222960" cy="3509640"/>
          </a:xfrm>
        </p:grpSpPr>
        <p:sp>
          <p:nvSpPr>
            <p:cNvPr id="360" name=""/>
            <p:cNvSpPr/>
            <p:nvPr/>
          </p:nvSpPr>
          <p:spPr>
            <a:xfrm>
              <a:off x="1460520" y="2400480"/>
              <a:ext cx="6222960" cy="35096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1886040" y="2946960"/>
              <a:ext cx="5370120" cy="241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63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02024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67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736640" y="263520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urning, or spinning, of a body on its ax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1736280" y="3433680"/>
            <a:ext cx="47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wo measurements for r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1992240" y="3841920"/>
            <a:ext cx="68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Mean solar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ime interval from one noon to the next, about 24 hou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92240" y="464040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Sidereal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ime it takes for Earth to make one complete rotation (360º) with respect to a star other than the sun—23 hours, 56 minutes, 4 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81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86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dereal 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2120" y="2006640"/>
            <a:ext cx="8699760" cy="4165560"/>
            <a:chOff x="222120" y="2006640"/>
            <a:chExt cx="8699760" cy="4165560"/>
          </a:xfrm>
        </p:grpSpPr>
        <p:sp>
          <p:nvSpPr>
            <p:cNvPr id="390" name=""/>
            <p:cNvSpPr/>
            <p:nvPr/>
          </p:nvSpPr>
          <p:spPr>
            <a:xfrm>
              <a:off x="222120" y="2006640"/>
              <a:ext cx="8699760" cy="4165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430200" y="2600280"/>
              <a:ext cx="8285040" cy="297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393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394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2492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397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736640" y="265896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motion of a body, such as a planet or moon, along a path around some point in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736640" y="380844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ihe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time in January when Earth is closest to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1736640" y="46054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he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time in July when Earth is farthest from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10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11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2492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14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Axis and Sea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736640" y="379584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of the inclination of Earth’s axis to the plane of the ecliptic, Earth has its yearly cycle of seas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1736640" y="2649600"/>
            <a:ext cx="70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lan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lip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 imaginary plane that connects Earth’s orbit with the celestial sp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2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3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cli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62000" y="1592280"/>
            <a:ext cx="5220000" cy="5092560"/>
            <a:chOff x="1962000" y="1592280"/>
            <a:chExt cx="5220000" cy="5092560"/>
          </a:xfrm>
        </p:grpSpPr>
        <p:sp>
          <p:nvSpPr>
            <p:cNvPr id="435" name=""/>
            <p:cNvSpPr/>
            <p:nvPr/>
          </p:nvSpPr>
          <p:spPr>
            <a:xfrm>
              <a:off x="1962000" y="1592280"/>
              <a:ext cx="52200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427120" y="1994040"/>
              <a:ext cx="4289760" cy="428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38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39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2492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42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736640" y="2637000"/>
            <a:ext cx="698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ces out a cone over a period of 26,000 ye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260360" y="34336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–Sun 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1736640" y="3900600"/>
            <a:ext cx="70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lar system speeds in the direction of the star V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738440" y="4694400"/>
            <a:ext cx="53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n revolves around the galax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1736640" y="5135400"/>
            <a:ext cx="69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rth is presently approaching one of its nearest galactic neighbors, the Great Galaxy in Androme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57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62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c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54160" y="1592280"/>
            <a:ext cx="8635680" cy="5092560"/>
            <a:chOff x="254160" y="1592280"/>
            <a:chExt cx="8635680" cy="5092560"/>
          </a:xfrm>
        </p:grpSpPr>
        <p:sp>
          <p:nvSpPr>
            <p:cNvPr id="466" name=""/>
            <p:cNvSpPr/>
            <p:nvPr/>
          </p:nvSpPr>
          <p:spPr>
            <a:xfrm>
              <a:off x="254160" y="1592280"/>
              <a:ext cx="863568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839880" y="1870200"/>
              <a:ext cx="7466040" cy="453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69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70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02600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73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60360" y="21636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g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point at which the moon is closest to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260360" y="30780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og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point at which the moon is farthest from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84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85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2600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88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ases of the Mo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1736640" y="264492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ases of the 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the progression of changes in the moon’s appearance during the mon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1736640" y="38052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phases are a result of the motion of the moon and the sunlight that is reflected from its su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01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02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2096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ncient Greek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2151000"/>
            <a:ext cx="758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trono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cience that studies the universe. It includes the observation and interpretation of celestial bodies and phenom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60360" y="3886200"/>
            <a:ext cx="75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eks used philosophical arguments to explain natural phenom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260360" y="4767120"/>
            <a:ext cx="75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eks also used some observational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0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0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028880" y="1563840"/>
            <a:ext cx="7086600" cy="5206680"/>
            <a:chOff x="1028880" y="1563840"/>
            <a:chExt cx="7086600" cy="5206680"/>
          </a:xfrm>
        </p:grpSpPr>
        <p:sp>
          <p:nvSpPr>
            <p:cNvPr id="509" name=""/>
            <p:cNvSpPr/>
            <p:nvPr/>
          </p:nvSpPr>
          <p:spPr>
            <a:xfrm>
              <a:off x="1028880" y="1563840"/>
              <a:ext cx="7086600" cy="52066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1593720" y="1725480"/>
              <a:ext cx="5954760" cy="488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12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13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2276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Mo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736640" y="26557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nodic month is ba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le of the moon’s phases. It lasts 29 1/2 d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1736640" y="344952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dereal month 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period of the moon’s revolution around Earth. It lasts 27 1/3 d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28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29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2276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532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36640" y="2658960"/>
            <a:ext cx="7124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fference of two days between the synodic and sidereal cycles is due to the Earth–moon system also moving in an orbit around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Mo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1736640" y="3726000"/>
            <a:ext cx="71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on’s period of rotation about its axis and its revolution around Earth are the same, 27 1/3 days. It causes the same lunar hemisphere to always face Ear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44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49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nar Mo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55680" y="1859040"/>
            <a:ext cx="8432640" cy="4483080"/>
            <a:chOff x="355680" y="1859040"/>
            <a:chExt cx="8432640" cy="4483080"/>
          </a:xfrm>
        </p:grpSpPr>
        <p:sp>
          <p:nvSpPr>
            <p:cNvPr id="553" name=""/>
            <p:cNvSpPr/>
            <p:nvPr/>
          </p:nvSpPr>
          <p:spPr>
            <a:xfrm>
              <a:off x="355680" y="1859040"/>
              <a:ext cx="8432640" cy="44830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1"/>
            <a:stretch/>
          </p:blipFill>
          <p:spPr>
            <a:xfrm>
              <a:off x="785880" y="2352960"/>
              <a:ext cx="7572240" cy="349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56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57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023120" y="1638360"/>
                <a:ext cx="182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clipse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560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60360" y="217656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lar ecli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 when the moon moves in a line directly between Earth and the sun, casting a shadow on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1260360" y="4424400"/>
            <a:ext cx="731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a new-moon or full-moon phase, the moon’s orbit must cross the plane of the ecliptic for an eclipse to take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1260360" y="351468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ecli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 when the moon passes through Earth’s sha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7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7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47680" y="1905120"/>
            <a:ext cx="8648640" cy="4368600"/>
            <a:chOff x="247680" y="1905120"/>
            <a:chExt cx="8648640" cy="4368600"/>
          </a:xfrm>
        </p:grpSpPr>
        <p:sp>
          <p:nvSpPr>
            <p:cNvPr id="581" name=""/>
            <p:cNvSpPr/>
            <p:nvPr/>
          </p:nvSpPr>
          <p:spPr>
            <a:xfrm>
              <a:off x="247680" y="1905120"/>
              <a:ext cx="8648640" cy="43686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546120" y="2297160"/>
              <a:ext cx="8051760" cy="358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84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89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nar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47680" y="1905120"/>
            <a:ext cx="8648640" cy="4368600"/>
            <a:chOff x="247680" y="1905120"/>
            <a:chExt cx="8648640" cy="4368600"/>
          </a:xfrm>
        </p:grpSpPr>
        <p:sp>
          <p:nvSpPr>
            <p:cNvPr id="593" name=""/>
            <p:cNvSpPr/>
            <p:nvPr/>
          </p:nvSpPr>
          <p:spPr>
            <a:xfrm>
              <a:off x="247680" y="1905120"/>
              <a:ext cx="8648640" cy="43686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681120" y="2266920"/>
              <a:ext cx="7781760" cy="364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96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97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022760" y="1638360"/>
                <a:ext cx="374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Lunar Surfac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36640" y="2646360"/>
            <a:ext cx="708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depression at the summit of a volcano or a depression produced by a meteorite impa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736640" y="3701880"/>
            <a:ext cx="71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craters were produced by the impact of rapidly moving debr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736640" y="4487760"/>
            <a:ext cx="71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y of a system of bright, elongated streaks, sometimes associated with a crater on the mo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1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1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on’s Su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2320" y="1592280"/>
            <a:ext cx="5499360" cy="5092560"/>
            <a:chOff x="1822320" y="1592280"/>
            <a:chExt cx="5499360" cy="5092560"/>
          </a:xfrm>
        </p:grpSpPr>
        <p:sp>
          <p:nvSpPr>
            <p:cNvPr id="622" name=""/>
            <p:cNvSpPr/>
            <p:nvPr/>
          </p:nvSpPr>
          <p:spPr>
            <a:xfrm>
              <a:off x="1822320" y="1592280"/>
              <a:ext cx="54993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2419200" y="2050920"/>
              <a:ext cx="4303800" cy="417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"/>
          <p:cNvGrpSpPr/>
          <p:nvPr/>
        </p:nvGrpSpPr>
        <p:grpSpPr>
          <a:xfrm>
            <a:off x="380880" y="1592280"/>
            <a:ext cx="8382240" cy="5092560"/>
            <a:chOff x="380880" y="1592280"/>
            <a:chExt cx="8382240" cy="5092560"/>
          </a:xfrm>
        </p:grpSpPr>
        <p:sp>
          <p:nvSpPr>
            <p:cNvPr id="625" name=""/>
            <p:cNvSpPr/>
            <p:nvPr/>
          </p:nvSpPr>
          <p:spPr>
            <a:xfrm>
              <a:off x="380880" y="1592280"/>
              <a:ext cx="838224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82560" y="2138400"/>
              <a:ext cx="7771680" cy="4000320"/>
              <a:chOff x="682560" y="2138400"/>
              <a:chExt cx="7771680" cy="4000320"/>
            </a:xfrm>
          </p:grpSpPr>
          <p:pic>
            <p:nvPicPr>
              <p:cNvPr id="6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6880" y="2138400"/>
                <a:ext cx="4122720" cy="400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6579000" y="3887640"/>
                <a:ext cx="1875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re Tranquillitatu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Sea of Tranquilit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682560" y="3024360"/>
                <a:ext cx="1369440" cy="2247480"/>
                <a:chOff x="682560" y="3024360"/>
                <a:chExt cx="1369440" cy="22474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82560" y="3024360"/>
                  <a:ext cx="1369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re Imbrium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Sea of Rain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999720" y="3900600"/>
                  <a:ext cx="7354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Kepl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ra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86960" y="4751640"/>
                  <a:ext cx="11592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pernic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ra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1982520" y="3289320"/>
                <a:ext cx="1816200" cy="12708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1690560" y="4088880"/>
                <a:ext cx="1498680" cy="6372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1919160" y="4088880"/>
                <a:ext cx="1727280" cy="86364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5182560" y="4114440"/>
                <a:ext cx="1498680" cy="8892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3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4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tion of a Cr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800440" y="1604880"/>
            <a:ext cx="3543120" cy="5092920"/>
            <a:chOff x="2800440" y="1604880"/>
            <a:chExt cx="3543120" cy="5092920"/>
          </a:xfrm>
        </p:grpSpPr>
        <p:sp>
          <p:nvSpPr>
            <p:cNvPr id="647" name=""/>
            <p:cNvSpPr/>
            <p:nvPr/>
          </p:nvSpPr>
          <p:spPr>
            <a:xfrm>
              <a:off x="2800440" y="1604880"/>
              <a:ext cx="3543120" cy="5092920"/>
            </a:xfrm>
            <a:custGeom>
              <a:avLst/>
              <a:gdLst>
                <a:gd name="textAreaLeft" fmla="*/ 229320 w 3543120"/>
                <a:gd name="textAreaRight" fmla="*/ 3313800 w 3543120"/>
                <a:gd name="textAreaTop" fmla="*/ 229320 h 5092920"/>
                <a:gd name="textAreaBottom" fmla="*/ 4863600 h 5092920"/>
              </a:gdLst>
              <a:ahLst/>
              <a:rect l="textAreaLeft" t="textAreaTop" r="textAreaRight" b="textAreaBottom"/>
              <a:pathLst>
                <a:path w="21600" h="31047">
                  <a:moveTo>
                    <a:pt x="4780" y="0"/>
                  </a:moveTo>
                  <a:arcTo wR="4780" hR="4780" stAng="16200000" swAng="-5400000"/>
                  <a:lnTo>
                    <a:pt x="0" y="26267"/>
                  </a:lnTo>
                  <a:arcTo wR="4780" hR="4780" stAng="10800000" swAng="-5400000"/>
                  <a:lnTo>
                    <a:pt x="16820" y="31047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1"/>
            <a:stretch/>
          </p:blipFill>
          <p:spPr>
            <a:xfrm>
              <a:off x="3354480" y="1811160"/>
              <a:ext cx="2435040" cy="46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17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22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trola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78000" y="1593720"/>
            <a:ext cx="4788000" cy="5092560"/>
            <a:chOff x="2178000" y="1593720"/>
            <a:chExt cx="4788000" cy="5092560"/>
          </a:xfrm>
        </p:grpSpPr>
        <p:sp>
          <p:nvSpPr>
            <p:cNvPr id="126" name=""/>
            <p:cNvSpPr/>
            <p:nvPr/>
          </p:nvSpPr>
          <p:spPr>
            <a:xfrm>
              <a:off x="2178000" y="1593720"/>
              <a:ext cx="4788000" cy="5092560"/>
            </a:xfrm>
            <a:custGeom>
              <a:avLst/>
              <a:gdLst>
                <a:gd name="textAreaLeft" fmla="*/ 310320 w 4788000"/>
                <a:gd name="textAreaRight" fmla="*/ 4477680 w 4788000"/>
                <a:gd name="textAreaTop" fmla="*/ 310320 h 5092560"/>
                <a:gd name="textAreaBottom" fmla="*/ 4782240 h 5092560"/>
              </a:gdLst>
              <a:ahLst/>
              <a:rect l="textAreaLeft" t="textAreaTop" r="textAreaRight" b="textAreaBottom"/>
              <a:pathLst>
                <a:path w="21600" h="22974">
                  <a:moveTo>
                    <a:pt x="4780" y="0"/>
                  </a:moveTo>
                  <a:arcTo wR="4780" hR="4780" stAng="16200000" swAng="-5400000"/>
                  <a:lnTo>
                    <a:pt x="0" y="18194"/>
                  </a:lnTo>
                  <a:arcTo wR="4780" hR="4780" stAng="10800000" swAng="-5400000"/>
                  <a:lnTo>
                    <a:pt x="16820" y="22974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670120" y="1773000"/>
              <a:ext cx="3803760" cy="473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650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651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22760" y="1638360"/>
                <a:ext cx="374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Lunar Surfac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54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36640" y="2644920"/>
            <a:ext cx="7112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f the lunar surface is made up of densely pitted, light-colored areas known as highla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l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736640" y="3852720"/>
            <a:ext cx="711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ncient beds of basaltic lava, originated when asteroids punctured the lunar surface, letting magma bleed 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1260360" y="33703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1736640" y="4919760"/>
            <a:ext cx="7077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long channel associated with lunar maria. A rille looks similar to a valley or a tren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668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669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22760" y="1638360"/>
                <a:ext cx="374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Lunar Surfac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72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36640" y="2646360"/>
            <a:ext cx="7124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unar regol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thin, gray layer on the surface of the moon, consisting of loosely compacted, fragmented material believed to have been formed by repeated impacts of meteor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ol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8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8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Topographic Features of the M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98440" y="1592280"/>
            <a:ext cx="8547120" cy="5092560"/>
            <a:chOff x="298440" y="1592280"/>
            <a:chExt cx="8547120" cy="5092560"/>
          </a:xfrm>
        </p:grpSpPr>
        <p:sp>
          <p:nvSpPr>
            <p:cNvPr id="692" name=""/>
            <p:cNvSpPr/>
            <p:nvPr/>
          </p:nvSpPr>
          <p:spPr>
            <a:xfrm>
              <a:off x="298440" y="1592280"/>
              <a:ext cx="854712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763560" y="1998720"/>
              <a:ext cx="7615440" cy="428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695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696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02168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unar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99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60360" y="2176560"/>
            <a:ext cx="753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widely accepted model for the origin of the moon is that when the solar system was forming, a body the size of Mars impacted Earth. The resulting debris was ejected into space, began orbiting around Earth, and eventually united to form the mo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709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714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tion of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61800" y="1871640"/>
            <a:ext cx="8420400" cy="4533840"/>
            <a:chOff x="361800" y="1871640"/>
            <a:chExt cx="8420400" cy="4533840"/>
          </a:xfrm>
        </p:grpSpPr>
        <p:sp>
          <p:nvSpPr>
            <p:cNvPr id="718" name=""/>
            <p:cNvSpPr/>
            <p:nvPr/>
          </p:nvSpPr>
          <p:spPr>
            <a:xfrm>
              <a:off x="361800" y="1871640"/>
              <a:ext cx="8420400" cy="45338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701640" y="2435400"/>
              <a:ext cx="7738920" cy="34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29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34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alculating Earth’s Circumferenc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62040" y="1592280"/>
            <a:ext cx="6019920" cy="5092560"/>
            <a:chOff x="1562040" y="1592280"/>
            <a:chExt cx="6019920" cy="5092560"/>
          </a:xfrm>
        </p:grpSpPr>
        <p:sp>
          <p:nvSpPr>
            <p:cNvPr id="138" name=""/>
            <p:cNvSpPr/>
            <p:nvPr/>
          </p:nvSpPr>
          <p:spPr>
            <a:xfrm>
              <a:off x="1562040" y="1592280"/>
              <a:ext cx="601992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039760" y="1968480"/>
              <a:ext cx="5064480" cy="434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41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42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2096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ncient Greek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0960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ocentric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36640" y="264780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ancient Greeks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cen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, the moon, sun, and the known planets—Mercury, Venus, Mars, and Jupiter—orbit Ear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209600" y="38131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liocentric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36640" y="429732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iocen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, Earth and the other planets orbit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5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6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ocentric and Heliocentric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5840" y="1871640"/>
            <a:ext cx="8572320" cy="4508640"/>
            <a:chOff x="285840" y="1871640"/>
            <a:chExt cx="8572320" cy="4508640"/>
          </a:xfrm>
        </p:grpSpPr>
        <p:sp>
          <p:nvSpPr>
            <p:cNvPr id="167" name=""/>
            <p:cNvSpPr/>
            <p:nvPr/>
          </p:nvSpPr>
          <p:spPr>
            <a:xfrm>
              <a:off x="285840" y="1871640"/>
              <a:ext cx="8572320" cy="45086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46120" y="2440080"/>
              <a:ext cx="8050320" cy="337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70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71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2096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ncient Greek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0960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tolemaic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635200"/>
            <a:ext cx="70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tolemy created a model of the universe that accounted for the movement of the plan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736640" y="3422520"/>
            <a:ext cx="70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ograd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apparent westward motion of the planets with respect to the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8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9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trograde 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9200" y="2003400"/>
            <a:ext cx="8445600" cy="3911760"/>
            <a:chOff x="349200" y="2003400"/>
            <a:chExt cx="8445600" cy="3911760"/>
          </a:xfrm>
        </p:grpSpPr>
        <p:sp>
          <p:nvSpPr>
            <p:cNvPr id="195" name=""/>
            <p:cNvSpPr/>
            <p:nvPr/>
          </p:nvSpPr>
          <p:spPr>
            <a:xfrm>
              <a:off x="349200" y="2003400"/>
              <a:ext cx="8445600" cy="39117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582480" y="2567160"/>
              <a:ext cx="7979040" cy="278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Navta 12</cp:lastModifiedBy>
  <cp:lastPrinted>2004-09-17T19:36:04Z</cp:lastPrinted>
  <dcterms:modified xsi:type="dcterms:W3CDTF">2004-11-01T16:24:36Z</dcterms:modified>
  <cp:revision>862</cp:revision>
  <dc:subject/>
  <dc:title>Volcanoes and Igneous Activity  Earth  -  Chapter 4</dc:title>
</cp:coreProperties>
</file>